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9A186-5889-4636-BB3E-C686AD4D79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5182F-97F1-4CFB-9BE6-E036DD06D2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31840" y="858960"/>
            <a:ext cx="7596360" cy="5697360"/>
          </a:xfrm>
          <a:prstGeom prst="rect">
            <a:avLst/>
          </a:prstGeom>
          <a:ln w="0">
            <a:noFill/>
          </a:ln>
        </p:spPr>
      </p:sp>
      <p:sp>
        <p:nvSpPr>
          <p:cNvPr id="292"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3241800" y="120600"/>
            <a:ext cx="3454200" cy="2590920"/>
          </a:xfrm>
          <a:prstGeom prst="rect">
            <a:avLst/>
          </a:prstGeom>
          <a:ln w="0">
            <a:noFill/>
          </a:ln>
        </p:spPr>
      </p:sp>
      <p:sp>
        <p:nvSpPr>
          <p:cNvPr id="294"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C373B-4C90-4112-B181-7A6548B7F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E2406590-6B95-4C4B-9F61-44AC96C730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D3DF7296-9854-4DAD-841A-E108195C6F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81D59A1F-BC0C-478F-AE0C-439BD4B5C9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46CC5-5C2F-49AC-AE6C-D5FFB709B6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056FB-006D-4406-843E-71A724268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DCAF0-A1BD-426E-81A1-8C401C673E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B2889-EC7B-41A4-9F8F-125B3C7A6B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081B-2164-4664-98BE-B2F6C211EC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BC5EE-0331-4940-940C-7364FC6446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D836-0276-4D82-8606-7E8837B5A8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F5D3DE86-2286-4F61-B965-C86C059BC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C10A-9B61-461B-AC65-10E383C53D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4E81-7969-4B32-A2A2-ED6CA35AAF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239D-0CB0-4823-9AD3-028087A72F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F6577-DB2B-460D-AA3B-73AF77C39C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AFCE2-2057-4CD3-96A8-C85D04E0A6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3E6C65C5-FB95-4E0D-B456-AB260C1BAF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A7DBE338-EC18-4340-A68A-D995020445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700A28C9-D822-42C5-82FE-97EB29A355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E0FB2CED-11C4-4087-AF6E-151B2D2A14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BC359FAC-360B-41DB-84C4-C78355912A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A59F1E62-ADB3-4741-B3B0-D299F0149B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495394C7-44C0-45EE-804B-FB87D81F68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F734B2F-4A98-436D-91A4-38E23E9E50A2}"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37C8D08-848B-4E14-8AC2-5F2873A4DA2E}"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D7592EA4-83DD-473A-83BD-9CCEF52FFA77}"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D89CA565-93C0-438E-ABBE-7C88B8C42F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5E188EA-88B6-4157-B2A0-8EF41E4723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4D4DA8D-12B9-40C2-A91C-CF6D68D1D6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0041685-3FD1-4795-9AD8-9AE8F5838D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71D3F21-2091-43B5-A18A-0A0DBCD7B7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1602067A-126F-4867-A562-7E4F4D089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87"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288"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Christof Schwab</cp:lastModifiedBy>
  <cp:lastPrinted>2004-02-09T19:24:34Z</cp:lastPrinted>
  <dcterms:modified xsi:type="dcterms:W3CDTF">2006-01-30T08:11:17Z</dcterms:modified>
  <cp:revision>495</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